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E8F-75CC-4990-8E0E-E28CF856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87E-5FB4-4CBE-AC65-70C8A070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19D-634A-4271-A948-98A9EBA9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FB2-F35F-4F4F-BBC9-48224549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7D53-6460-4639-BB10-FBFD7CFC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79D5-A480-491D-A39A-87E5A676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9F02-1FE1-48B8-B5E4-BFEA061E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2432-5129-482E-A536-EB21CF74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C26B-A0AC-4964-9F04-FB7360B9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115D-E877-4F8F-9796-8DC2DB5C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771A-4F3D-4D6D-BCA7-28CFB940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538-878D-41ED-B694-16B866C5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044E-4E48-4B30-AA84-5711E09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B571-DB0A-461A-912C-9AE690F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0D78-CAED-4AB5-8183-FDA168EE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CFC7-89B9-4C62-9CEB-DE93D450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A222-8BFC-4DC1-95CD-DBE39D53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399-DD85-4AAD-A57D-A6CB6390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5AE-2CF6-456F-AF85-ECC63EB9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631-D559-4FF9-AA2A-F40AEE4B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A8A-62F7-41F5-8F7C-DB2045AB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4D0-0EA7-4D14-A2BF-55A13F81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FAC5-235C-4F17-B2B3-F327F51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78F-8F9D-495B-9026-A4689EE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FCBD-5FAE-435F-B510-45058D6431B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418B-D1E6-4846-861B-470B45205F0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GIVE US A KING”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United Kingdom, Part 2</a:t>
            </a:r>
            <a:endParaRPr b="0" lang="en-US" sz="4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Quarter 4, Lesson 9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1 Kings 2, Pages 110-114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David’s Charge to Solomon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-9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strong and courageou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bey the Lord’s commandmen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avid’s advice concerning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oab; do not let him go to the grave in pea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arzillai; show kindness to his s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imei; bring him down to the grave in blood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The Death of Davi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0-12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ved 7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igned 40 yea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Hebron, 7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Jerusalem, 33 yea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ried in city of David (Jerusalem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now established as king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donijah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13-2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donijah wanted Abishag for his wif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till bitter that he was not king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ent to Bathsheba to get Solomon’s permissio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lomon outraged at the request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Saw through the scheme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Knew what it would mean if granted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told to kill Abiatha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Abiathar Banished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6-27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biathar had helped Adonija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pared the death senten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moved from the priestho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ulfilled God’s promise at Shiloh that the priesthood would depart from Eli’s house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(1 Sam. 2:13-35)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athoth became his pris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Zadok made priest - returned the priesthood to the family of Eliez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Joab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28-35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eard Adonijah killed and Abiathar banished; knew his fat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ook refuge in the tabernacle to plead for merc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oab had killed men (Abner and Amasa) better than hi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told Benaiah to killed Joab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emember the rule of Ex. 21:14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naiah became commander of the arm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ahoma"/>
              </a:rPr>
              <a:t>Shimei Put To Death</a:t>
            </a: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1 Kings 2:36-46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“grounds” Shimei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fter 3 years, Shimei violates his parol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reminded him of his oath to Go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imei Put To Death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olomon has now “cleaned house” of his father’s enem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487692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07:05Z</dcterms:created>
  <dc:creator>Don Vines</dc:creator>
  <dc:description/>
  <dc:language>en-US</dc:language>
  <cp:lastModifiedBy>Don Vines</cp:lastModifiedBy>
  <dcterms:modified xsi:type="dcterms:W3CDTF">2005-04-28T20:15:28Z</dcterms:modified>
  <cp:revision>7</cp:revision>
  <dc:subject/>
  <dc:title>GIVE US A KING The United Kingdom, Part 2</dc:title>
</cp:coreProperties>
</file>